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6530-8CC7-4BF0-B97F-47D49B0B2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841-C13A-4166-AD89-8F161167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D22-46CD-4219-827B-01895741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CC0-1CBD-4688-9140-43C0654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4A1E6-C6A7-4F8E-A451-3B313EA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EEE4-B15B-4BA9-8AF9-567FF2B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383E6-9048-46F9-92FF-DC5FCD47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CB1D9-AC96-4E91-87F5-B160D56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23BB-22C1-473A-8DDB-3CCA666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B553-E00B-4D5A-B8C7-953ED1A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836D-F1C6-4A6B-BB7C-332F2A7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B0CF-6925-4A67-827D-C40135F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78988-C5D8-4C1C-9AA5-E21F5180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FEDC8-01D9-4907-AF97-1F4298E6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393-F9F7-4705-A7AF-9E8E7309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04EE-28EF-4ECA-B005-B4FC6865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3AEF0-6A6E-4497-82DA-2C6C453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2ED7F-2F54-4411-B082-F0A0880E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C7E55-8209-4229-9D31-DFD57566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00147-2B27-4B23-A598-5E4DC13C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4D1EA-6B96-4C74-8C7B-9FD3B44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D720-82F9-4AFE-8500-B59B853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4E70-7D81-42B8-AB9B-C1937BC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ECD7D-A968-4979-BFB3-7DB7749C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BB892-9AC9-420D-B0CC-018B2246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8B6-6D27-4D26-BAFC-6EDE057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FE6FC-A1EC-4AC8-9DBF-2092F0E8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769A5-9466-4B4D-B9F0-E14DDD8B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0838-3661-4EF7-9BDE-77F3F49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E31B-9ECD-4ABE-B6A2-6D3619F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55F36-AAAD-4994-B5C1-CB51511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39A8-A188-4A24-B32D-7080203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FF9FE-E98A-4450-A1A1-0605F660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A6407-D0C0-4DEB-BD74-85971F1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A09B7-03F5-469B-927B-A2FF8ED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DE53F-D455-4FF2-9D4B-236BAFE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20F8-FDD0-4A3F-83D1-DEBE7F9F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3068E-25A3-48EA-A550-87B6E4D9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32561-FF0E-4750-B959-F8D695A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0BCF-B7E8-4032-8363-07EEC68A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3352A-2F65-4422-8D80-EAAF49C7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49785-6E28-436B-BBB5-EC3BAD5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F381E-6A82-478D-804A-22DC945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32D10-303B-4FA3-BA9E-9441265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CEB1B-06F9-4E55-AC2E-9D319D4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EE908-538A-412C-AE99-D41869D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59645-7D55-4063-A30D-5AD4E01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594-FCDD-46EE-B8C0-6CB4215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86A3-BA98-4DCA-86E8-289E38D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D7010-26B3-46D6-95A4-350C21F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B41FF-BA64-479B-AF58-4CE6D796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F119A-EAE1-4E11-A083-A1D1996B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E31B2-5037-4C01-AD59-55CE10C2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E617-A577-48B3-9B0D-EA7922F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6853-451F-4EFC-8E14-66E5B1B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178A-EB84-4D0A-845B-9FB15DA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E99-3593-45C8-8F1A-69493D7E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AF9B-1989-40E8-B3D7-5E000E86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BAA-DCC3-41DF-B285-4A04F65F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BA46-6518-4D2A-B982-953AFBA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7FD-CE46-4039-A9B5-4F00C6A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9EF0-3500-4A35-B4AC-FAAC684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8F7-C19A-464C-8C5B-B6E15F0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6F4B-DC34-432E-9241-DD2EB719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F7AC-22D7-4CCB-8445-89B6EF6F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9B34A-F9A9-4056-99C2-3069020F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9FAC-1DC3-44A2-96F4-C7F9A2C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8D68-616D-4904-ACFA-8055B6A8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6967-45C2-46C0-9208-C936F54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4A7-8159-4076-8BAA-AD3C500F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2F53-1777-4F1D-AF4E-EFEDA54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2992-8103-4C35-89CE-18A2CB6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BC09-746C-429C-A7A9-B53835E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74F0-1395-4D8E-8F7C-79040B9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DB73-DEA3-46EF-B363-0B799BEA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2C81-BCFB-400E-A1D0-30C4D95D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3CA9-E39C-4690-BE2E-27FDDC6D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D893-B0D0-48EA-9A81-9273733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51A2-76FF-4CD2-83E0-356B498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7DA1-9C95-479C-9F25-51EACA2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A0A-880A-4A27-B6B5-B4F923E4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D976-5CE3-49DC-8BB4-B49CFF4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84D8-2423-48B2-A497-51BBF85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00A34-D977-4034-AFFB-6BC997E6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1502-E82F-42FE-A72D-5E77FD4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1F78-7327-4DD1-8E89-594CF48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CD55-FE88-4AE9-92A2-75272D8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C501-0A38-4C14-B620-92A935A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3BB6-1877-441A-B1DD-4D281A89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34CF-E6F7-4B5C-B42B-BA78BDDA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13C9-EEF1-4009-8DB7-F4F9D655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535-34AB-4618-815E-8DA2132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116D-AEE1-4312-90E2-708C76A3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9082-5008-496B-9A72-E32D087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83C9-A0C0-46EC-944C-7003545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B8C9-15D6-4D95-96EF-44EDAC5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8E53-EDFB-467C-B9BA-4E9973C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E905-F6FB-48AB-90F3-2D143FA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0B1A-45A7-436A-9B66-B95EF70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C87A-EE71-4D90-8539-6A1EBA4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29E2-6CEE-4923-819D-A69D2DE5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C3FC-37B8-4E2E-BB38-5A1D8962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554-A722-4B5E-A257-35B2CD3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C753-49A5-45BE-A41B-97176095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B4C65-C830-4DFD-BE1E-D9EA927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26C5-FAC4-44CD-B617-3DA63CF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FA96A-286B-43A3-82CC-C4EB95DC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AC0B-1F77-4EEB-9D04-405DFD35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0CA65-1DB3-4CC4-833B-0EF1A43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2F7B3-71F3-4B25-842A-C94800D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EAD5-8248-4596-AB7E-3937630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3610-9122-48B9-B59E-8FFF636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1563-DD78-43D9-93E9-298D19C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928-432A-4C93-9F60-95E09EB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C47B-20AA-4BD4-AE5B-55584F0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D5CA-0F63-473A-AFD7-7789F05F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3104-DCC9-4A2E-AA1D-6F50DCEF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AAE47-D91E-41F8-9B3A-09231FAD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90C1-3F34-4F7A-89A9-1FE29AB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A07B2-E2AC-43F0-94B8-181451BD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69C9B-D7C3-4359-BBC5-32A3040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E1F1-DA2D-4BB9-97F4-088994D6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AFA1-B906-4606-A21B-64AF7C4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B4E2-064C-425B-BB76-AC0DC01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BFA-6C12-4291-8B48-5A06D41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31505-F310-46C6-8123-EF0BBBC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4E34-CEFE-44A5-A1EB-C8AAB5B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99C1-8F31-4244-BCB7-AA6367E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9504-8CC7-414A-B7E3-83278C1B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25CE-C951-4437-8AD8-7DB733E4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6CC7-351F-4AA4-A9DC-C77151B8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621C-4697-4697-822E-B53C226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3E161-C59B-4F4F-A47F-E6C3D7D9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9A66-C9B0-40E4-BD4E-987B886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CEA01-4B8B-43BC-9AD0-8341BBA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4FC-01B9-4540-BDC5-5AB50F0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796C-7FD4-462E-B8DD-4BDD30DF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7096-8C54-4389-AE31-29E6A1B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2D86A-45B7-4808-B858-F79B702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384D4-444C-4A46-A7E0-542E810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2323-A4EE-464D-979E-BCF89CC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EC23A-E76A-4D0C-B619-EEEA0FD1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1E45-B39B-4899-8E03-CD2339E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8D3BF-D9DC-49BF-9022-61B3AE18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01654-E5BC-4C18-B27F-69BDDF9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17D15-B65F-476B-9513-FC241CDF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53E9-ADB9-4783-B75A-65E51C2E8F8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3984-F955-4653-A54B-C8A0413E852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201-2AF6-46F2-BF7B-8925492E787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C07-9A20-4082-9C3A-C9C037DF7E9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A07-81F9-410A-AA81-62DE33E22D7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A1D0-3D09-4C24-89EC-AF35D1DB0F9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3D2-BD12-4FAA-86CE-722FE7D67A6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4F4-9906-47DB-8985-72C82736CEC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8DD-6021-43E2-82E6-6D5EBE7B3A2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8E26-07EC-4535-80D4-9BC08FEE370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3CE-AAA7-4874-AA6D-96E31493F83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C20-45CC-49DD-B6C0-3E851D8CC9E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0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behavior in animals might be triggered by cold temperatur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behaviors might be triggered in hot temperatur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2 examples of negative feedback. List 2 examples of positive feed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ain type of chemical messenger in the endocrine system? The nervou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overy Video: Endocri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1160" y="1122120"/>
            <a:ext cx="4216320" cy="63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t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81160" y="1762200"/>
            <a:ext cx="4216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-sol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nd to receptors on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plasma membrane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amp; triggers signal transduction path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protein activity </a:t>
            </a:r>
            <a:r>
              <a:rPr b="0" lang="en-US" sz="2600" spc="-1" strike="noStrike">
                <a:solidFill>
                  <a:srgbClr val="5918bb"/>
                </a:solidFill>
                <a:latin typeface="Calibri"/>
              </a:rPr>
              <a:t>already pres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pid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-l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. oxytocin, insulin, epineph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5080" y="1122120"/>
            <a:ext cx="4248000" cy="63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ter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5080" y="1762200"/>
            <a:ext cx="4248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pid-sol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rs cell &amp; binds to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intracellula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es change in </a:t>
            </a:r>
            <a:r>
              <a:rPr b="0" lang="en-US" sz="2600" spc="-1" strike="noStrike">
                <a:solidFill>
                  <a:srgbClr val="5918bb"/>
                </a:solidFill>
                <a:latin typeface="Calibri"/>
              </a:rPr>
              <a:t>gene expres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tein synthes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ower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er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. androgens (testosterone), estrogen, progesterone, cortis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45_06ReceptorLocation_2-L.jpg"/>
          <p:cNvPicPr/>
          <p:nvPr/>
        </p:nvPicPr>
        <p:blipFill>
          <a:blip r:embed="rId1"/>
          <a:stretch/>
        </p:blipFill>
        <p:spPr>
          <a:xfrm>
            <a:off x="2008080" y="136440"/>
            <a:ext cx="51278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3360" y="-360"/>
            <a:ext cx="85392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nephri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one hormon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any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3" descr="45_09HormoneEffects-L.jpg"/>
          <p:cNvPicPr/>
          <p:nvPr/>
        </p:nvPicPr>
        <p:blipFill>
          <a:blip r:embed="rId1"/>
          <a:stretch/>
        </p:blipFill>
        <p:spPr>
          <a:xfrm>
            <a:off x="1460520" y="892080"/>
            <a:ext cx="6222960" cy="47926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"/>
          <p:cNvSpPr/>
          <p:nvPr/>
        </p:nvSpPr>
        <p:spPr>
          <a:xfrm>
            <a:off x="825480" y="5707080"/>
            <a:ext cx="28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r cells break down glycogen and release gluc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3441600" y="5724360"/>
            <a:ext cx="23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 vessels to skeletal muscles di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5952960" y="5729400"/>
            <a:ext cx="224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od vessels to intestines con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309600" y="1339920"/>
            <a:ext cx="2855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09600" y="4097160"/>
            <a:ext cx="2806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9"/>
          <p:cNvSpPr/>
          <p:nvPr/>
        </p:nvSpPr>
        <p:spPr>
          <a:xfrm>
            <a:off x="1558800" y="2050920"/>
            <a:ext cx="304920" cy="18288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457200" y="12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ter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1" descr="45_14BrainEndoGlands-L.jpg"/>
          <p:cNvPicPr/>
          <p:nvPr/>
        </p:nvPicPr>
        <p:blipFill>
          <a:blip r:embed="rId1"/>
          <a:stretch/>
        </p:blipFill>
        <p:spPr>
          <a:xfrm>
            <a:off x="3373560" y="952560"/>
            <a:ext cx="54165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309600" y="1339920"/>
            <a:ext cx="2855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309600" y="4097160"/>
            <a:ext cx="2806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3470400" y="1103400"/>
            <a:ext cx="527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s info from nerves and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es endocrin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3532320" y="2449440"/>
            <a:ext cx="56116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Posterior pituitary gland</a:t>
            </a: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xytoc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contract uterine muscles, eject milk in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idiuretic Hormone (AD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mot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retention by kidn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3479760" y="4440240"/>
            <a:ext cx="56642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Anterior pituitary gland</a:t>
            </a:r>
            <a:r>
              <a:rPr b="0" lang="en-US" sz="2000" spc="-1" strike="noStrike">
                <a:solidFill>
                  <a:srgbClr val="953735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icle-stimulating hormone (FS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velopment of ovarian follicles (eggs); promote sperm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teinizing hormone (LH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gger ovulation; stimulate testosterone production in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9"/>
          <p:cNvSpPr/>
          <p:nvPr/>
        </p:nvSpPr>
        <p:spPr>
          <a:xfrm>
            <a:off x="1558800" y="2050920"/>
            <a:ext cx="304920" cy="18288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eft Brace 8"/>
          <p:cNvSpPr/>
          <p:nvPr/>
        </p:nvSpPr>
        <p:spPr>
          <a:xfrm>
            <a:off x="3236760" y="1123920"/>
            <a:ext cx="358920" cy="927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40320 h 927000"/>
              <a:gd name="textAreaBottom" fmla="*/ 886680 h 9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8086"/>
                </a:lnTo>
                <a:cubicBezTo>
                  <a:pt x="10800" y="9587"/>
                  <a:pt x="5400" y="11088"/>
                  <a:pt x="0" y="11088"/>
                </a:cubicBezTo>
                <a:cubicBezTo>
                  <a:pt x="5400" y="11088"/>
                  <a:pt x="10800" y="12589"/>
                  <a:pt x="10800" y="14090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eft Brace 9"/>
          <p:cNvSpPr/>
          <p:nvPr/>
        </p:nvSpPr>
        <p:spPr>
          <a:xfrm>
            <a:off x="3143160" y="2446200"/>
            <a:ext cx="514440" cy="4189680"/>
          </a:xfrm>
          <a:custGeom>
            <a:avLst/>
            <a:gdLst>
              <a:gd name="textAreaLeft" fmla="*/ 328680 w 514440"/>
              <a:gd name="textAreaRight" fmla="*/ 514800 w 514440"/>
              <a:gd name="textAreaTop" fmla="*/ 57600 h 4189680"/>
              <a:gd name="textAreaBottom" fmla="*/ 4132080 h 418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7"/>
                  <a:pt x="10800" y="953"/>
                </a:cubicBezTo>
                <a:lnTo>
                  <a:pt x="10800" y="9412"/>
                </a:lnTo>
                <a:cubicBezTo>
                  <a:pt x="10800" y="9889"/>
                  <a:pt x="5400" y="10365"/>
                  <a:pt x="0" y="10365"/>
                </a:cubicBezTo>
                <a:cubicBezTo>
                  <a:pt x="5400" y="10365"/>
                  <a:pt x="10800" y="10842"/>
                  <a:pt x="10800" y="11318"/>
                </a:cubicBezTo>
                <a:lnTo>
                  <a:pt x="10800" y="20647"/>
                </a:lnTo>
                <a:cubicBezTo>
                  <a:pt x="10800" y="2112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127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ster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thalam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ulat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osterior Pituit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0" descr="45_15PostPituitaryHorm-L.jpg"/>
          <p:cNvPicPr/>
          <p:nvPr/>
        </p:nvPicPr>
        <p:blipFill>
          <a:blip r:embed="rId1"/>
          <a:stretch/>
        </p:blipFill>
        <p:spPr>
          <a:xfrm>
            <a:off x="1714680" y="1211400"/>
            <a:ext cx="5582880" cy="54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thalam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gulat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nterior Pituit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39" descr="45_16AntPituitaryHorm-L.jpg"/>
          <p:cNvPicPr/>
          <p:nvPr/>
        </p:nvPicPr>
        <p:blipFill>
          <a:blip r:embed="rId1"/>
          <a:stretch/>
        </p:blipFill>
        <p:spPr>
          <a:xfrm>
            <a:off x="1027080" y="1127160"/>
            <a:ext cx="72151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45_T01aEndocrineGlands-L.jpg"/>
          <p:cNvPicPr/>
          <p:nvPr/>
        </p:nvPicPr>
        <p:blipFill>
          <a:blip r:embed="rId1"/>
          <a:stretch/>
        </p:blipFill>
        <p:spPr>
          <a:xfrm>
            <a:off x="0" y="1440"/>
            <a:ext cx="92124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45_T01bEndocrineGlands-L.jpg"/>
          <p:cNvPicPr/>
          <p:nvPr/>
        </p:nvPicPr>
        <p:blipFill>
          <a:blip r:embed="rId1"/>
          <a:stretch/>
        </p:blipFill>
        <p:spPr>
          <a:xfrm>
            <a:off x="0" y="414360"/>
            <a:ext cx="912492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and contrast the nervous system with the endocrine system. (Focus on the effects on the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neurosecretory cell.  What is its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positive and negative feedback in the endocrine system.  How do they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630360"/>
            <a:ext cx="843912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9760" indent="-395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feedback syste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 glucos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760" indent="-395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feedback syst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ytocin (birthing process; release of milk/suck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9948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OFLIX: HOMEOSTASIS – BLOOD SU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sulin &amp; Glucag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ntrol blood glucos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7" descr="45_13_InsulinGlucagon-L.jpg"/>
          <p:cNvPicPr/>
          <p:nvPr/>
        </p:nvPicPr>
        <p:blipFill>
          <a:blip r:embed="rId1"/>
          <a:stretch/>
        </p:blipFill>
        <p:spPr>
          <a:xfrm>
            <a:off x="1457280" y="798480"/>
            <a:ext cx="654840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 of Blood Gluc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3246480" y="1031760"/>
            <a:ext cx="2208240" cy="1047960"/>
            <a:chOff x="3246480" y="1031760"/>
            <a:chExt cx="2208240" cy="1047960"/>
          </a:xfrm>
        </p:grpSpPr>
        <p:sp>
          <p:nvSpPr>
            <p:cNvPr id="555" name="Rounded Rectangle 6"/>
            <p:cNvSpPr/>
            <p:nvPr/>
          </p:nvSpPr>
          <p:spPr>
            <a:xfrm>
              <a:off x="3246480" y="1031760"/>
              <a:ext cx="2208240" cy="1047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ounded Rectangle 4"/>
            <p:cNvSpPr/>
            <p:nvPr/>
          </p:nvSpPr>
          <p:spPr>
            <a:xfrm>
              <a:off x="3297240" y="1082520"/>
              <a:ext cx="210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igh blood glu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8"/>
          <p:cNvGrpSpPr/>
          <p:nvPr/>
        </p:nvGrpSpPr>
        <p:grpSpPr>
          <a:xfrm>
            <a:off x="5338800" y="2593800"/>
            <a:ext cx="3524040" cy="873360"/>
            <a:chOff x="5338800" y="2593800"/>
            <a:chExt cx="3524040" cy="873360"/>
          </a:xfrm>
        </p:grpSpPr>
        <p:sp>
          <p:nvSpPr>
            <p:cNvPr id="558" name="Rounded Rectangle 9"/>
            <p:cNvSpPr/>
            <p:nvPr/>
          </p:nvSpPr>
          <p:spPr>
            <a:xfrm>
              <a:off x="5338800" y="2593800"/>
              <a:ext cx="3524040" cy="87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ounded Rectangle 4"/>
            <p:cNvSpPr/>
            <p:nvPr/>
          </p:nvSpPr>
          <p:spPr>
            <a:xfrm>
              <a:off x="5387760" y="2636640"/>
              <a:ext cx="34257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alibri"/>
                </a:rPr>
                <a:t>Insulin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released from panc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1"/>
          <p:cNvGrpSpPr/>
          <p:nvPr/>
        </p:nvGrpSpPr>
        <p:grpSpPr>
          <a:xfrm>
            <a:off x="5033880" y="3755880"/>
            <a:ext cx="3826080" cy="1587600"/>
            <a:chOff x="5033880" y="3755880"/>
            <a:chExt cx="3826080" cy="1587600"/>
          </a:xfrm>
        </p:grpSpPr>
        <p:sp>
          <p:nvSpPr>
            <p:cNvPr id="561" name="Rounded Rectangle 12"/>
            <p:cNvSpPr/>
            <p:nvPr/>
          </p:nvSpPr>
          <p:spPr>
            <a:xfrm>
              <a:off x="5033880" y="3755880"/>
              <a:ext cx="3826080" cy="1587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ounded Rectangle 4"/>
            <p:cNvSpPr/>
            <p:nvPr/>
          </p:nvSpPr>
          <p:spPr>
            <a:xfrm>
              <a:off x="5094000" y="3832560"/>
              <a:ext cx="370548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ody cells take up gluc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iver stores glucose as </a:t>
              </a:r>
              <a:r>
                <a:rPr b="1" lang="en-US" sz="2400" spc="-1" strike="noStrike">
                  <a:solidFill>
                    <a:srgbClr val="00ff00"/>
                  </a:solidFill>
                  <a:latin typeface="Calibri"/>
                </a:rPr>
                <a:t>glyco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3314880" y="5529240"/>
            <a:ext cx="2185920" cy="1136520"/>
            <a:chOff x="3314880" y="5529240"/>
            <a:chExt cx="2185920" cy="1136520"/>
          </a:xfrm>
        </p:grpSpPr>
        <p:sp>
          <p:nvSpPr>
            <p:cNvPr id="564" name="Rounded Rectangle 15"/>
            <p:cNvSpPr/>
            <p:nvPr/>
          </p:nvSpPr>
          <p:spPr>
            <a:xfrm>
              <a:off x="3314880" y="5529240"/>
              <a:ext cx="2185920" cy="113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ounded Rectangle 4"/>
            <p:cNvSpPr/>
            <p:nvPr/>
          </p:nvSpPr>
          <p:spPr>
            <a:xfrm>
              <a:off x="3367080" y="5584680"/>
              <a:ext cx="20811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lood glucose dr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210960" y="4129200"/>
            <a:ext cx="3033720" cy="930240"/>
            <a:chOff x="210960" y="4129200"/>
            <a:chExt cx="3033720" cy="930240"/>
          </a:xfrm>
        </p:grpSpPr>
        <p:sp>
          <p:nvSpPr>
            <p:cNvPr id="567" name="Rounded Rectangle 18"/>
            <p:cNvSpPr/>
            <p:nvPr/>
          </p:nvSpPr>
          <p:spPr>
            <a:xfrm>
              <a:off x="210960" y="4129200"/>
              <a:ext cx="3033720" cy="930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ounded Rectangle 4"/>
            <p:cNvSpPr/>
            <p:nvPr/>
          </p:nvSpPr>
          <p:spPr>
            <a:xfrm>
              <a:off x="255240" y="4174920"/>
              <a:ext cx="29451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alibri"/>
                </a:rPr>
                <a:t>Glucagon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released from panc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192240" y="2300400"/>
            <a:ext cx="3066840" cy="1407960"/>
            <a:chOff x="192240" y="2300400"/>
            <a:chExt cx="3066840" cy="1407960"/>
          </a:xfrm>
        </p:grpSpPr>
        <p:sp>
          <p:nvSpPr>
            <p:cNvPr id="570" name="Rounded Rectangle 21"/>
            <p:cNvSpPr/>
            <p:nvPr/>
          </p:nvSpPr>
          <p:spPr>
            <a:xfrm>
              <a:off x="192240" y="2300400"/>
              <a:ext cx="3066840" cy="1407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ounded Rectangle 4"/>
            <p:cNvSpPr/>
            <p:nvPr/>
          </p:nvSpPr>
          <p:spPr>
            <a:xfrm>
              <a:off x="255600" y="2368440"/>
              <a:ext cx="294012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Liver breaks down glycogen and releases </a:t>
              </a:r>
              <a:r>
                <a:rPr b="1" lang="en-US" sz="2400" spc="-1" strike="noStrike">
                  <a:solidFill>
                    <a:srgbClr val="fac090"/>
                  </a:solidFill>
                  <a:latin typeface="Calibri"/>
                </a:rPr>
                <a:t>glucose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into 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2" name="Straight Arrow Connector 24"/>
          <p:cNvCxnSpPr>
            <a:stCxn id="555" idx="3"/>
            <a:endCxn id="559" idx="0"/>
          </p:cNvCxnSpPr>
          <p:nvPr/>
        </p:nvCxnSpPr>
        <p:spPr>
          <a:xfrm>
            <a:off x="5454360" y="1555560"/>
            <a:ext cx="164700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3" name="Straight Arrow Connector 25"/>
          <p:cNvCxnSpPr>
            <a:stCxn id="558" idx="2"/>
            <a:endCxn id="562" idx="0"/>
          </p:cNvCxnSpPr>
          <p:nvPr/>
        </p:nvCxnSpPr>
        <p:spPr>
          <a:xfrm flipH="1">
            <a:off x="6946560" y="3467160"/>
            <a:ext cx="154800" cy="36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4" name="Straight Arrow Connector 32"/>
          <p:cNvCxnSpPr>
            <a:stCxn id="562" idx="2"/>
            <a:endCxn id="564" idx="3"/>
          </p:cNvCxnSpPr>
          <p:nvPr/>
        </p:nvCxnSpPr>
        <p:spPr>
          <a:xfrm flipH="1">
            <a:off x="5500080" y="5266800"/>
            <a:ext cx="1446840" cy="83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Straight Arrow Connector 35"/>
          <p:cNvCxnSpPr>
            <a:stCxn id="564" idx="1"/>
            <a:endCxn id="567" idx="2"/>
          </p:cNvCxnSpPr>
          <p:nvPr/>
        </p:nvCxnSpPr>
        <p:spPr>
          <a:xfrm flipH="1" flipV="1">
            <a:off x="1726920" y="5059440"/>
            <a:ext cx="158832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Straight Arrow Connector 38"/>
          <p:cNvCxnSpPr>
            <a:stCxn id="570" idx="0"/>
            <a:endCxn id="555" idx="1"/>
          </p:cNvCxnSpPr>
          <p:nvPr/>
        </p:nvCxnSpPr>
        <p:spPr>
          <a:xfrm flipV="1">
            <a:off x="1725120" y="1555560"/>
            <a:ext cx="1521720" cy="74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39"/>
          <p:cNvCxnSpPr>
            <a:stCxn id="567" idx="0"/>
            <a:endCxn id="570" idx="2"/>
          </p:cNvCxnSpPr>
          <p:nvPr/>
        </p:nvCxnSpPr>
        <p:spPr>
          <a:xfrm flipH="1" flipV="1">
            <a:off x="1724760" y="3707640"/>
            <a:ext cx="2520" cy="421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318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I diabe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0%):deficiency of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in-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immune dis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a cells of pancreas destr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II diabe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90%): failure of target cells to respond to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insulin 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in produc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lls don’t respond (defect in insulin receptor or response path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factors: obesity, lack of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4"/>
          <p:cNvSpPr/>
          <p:nvPr/>
        </p:nvSpPr>
        <p:spPr>
          <a:xfrm>
            <a:off x="181080" y="206280"/>
            <a:ext cx="36828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4"/>
          <p:cNvGrpSpPr/>
          <p:nvPr/>
        </p:nvGrpSpPr>
        <p:grpSpPr>
          <a:xfrm>
            <a:off x="4481640" y="250920"/>
            <a:ext cx="4662360" cy="6222960"/>
            <a:chOff x="4481640" y="250920"/>
            <a:chExt cx="4662360" cy="6222960"/>
          </a:xfrm>
        </p:grpSpPr>
        <p:pic>
          <p:nvPicPr>
            <p:cNvPr id="582" name="Picture 45" descr=""/>
            <p:cNvPicPr/>
            <p:nvPr/>
          </p:nvPicPr>
          <p:blipFill>
            <a:blip r:embed="rId1"/>
            <a:srcRect l="0" t="0" r="7210" b="2790"/>
            <a:stretch/>
          </p:blipFill>
          <p:spPr>
            <a:xfrm>
              <a:off x="4481640" y="250920"/>
              <a:ext cx="4662360" cy="62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32"/>
            <p:cNvSpPr/>
            <p:nvPr/>
          </p:nvSpPr>
          <p:spPr>
            <a:xfrm>
              <a:off x="6247080" y="534960"/>
              <a:ext cx="1062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8"/>
            <p:cNvSpPr/>
            <p:nvPr/>
          </p:nvSpPr>
          <p:spPr>
            <a:xfrm>
              <a:off x="6612120" y="1668240"/>
              <a:ext cx="32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39"/>
            <p:cNvSpPr/>
            <p:nvPr/>
          </p:nvSpPr>
          <p:spPr>
            <a:xfrm>
              <a:off x="6411960" y="2674800"/>
              <a:ext cx="722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40"/>
            <p:cNvSpPr/>
            <p:nvPr/>
          </p:nvSpPr>
          <p:spPr>
            <a:xfrm>
              <a:off x="6618600" y="3871440"/>
              <a:ext cx="32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41"/>
            <p:cNvSpPr/>
            <p:nvPr/>
          </p:nvSpPr>
          <p:spPr>
            <a:xfrm>
              <a:off x="6402600" y="4951080"/>
              <a:ext cx="728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yro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42"/>
            <p:cNvSpPr/>
            <p:nvPr/>
          </p:nvSpPr>
          <p:spPr>
            <a:xfrm>
              <a:off x="6224760" y="6084360"/>
              <a:ext cx="274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43"/>
            <p:cNvSpPr/>
            <p:nvPr/>
          </p:nvSpPr>
          <p:spPr>
            <a:xfrm>
              <a:off x="7021800" y="6090840"/>
              <a:ext cx="274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0" name="Picture 2" descr="45_10GravesDisease_UP"/>
          <p:cNvPicPr/>
          <p:nvPr/>
        </p:nvPicPr>
        <p:blipFill>
          <a:blip r:embed="rId2"/>
          <a:stretch/>
        </p:blipFill>
        <p:spPr>
          <a:xfrm>
            <a:off x="652320" y="4545000"/>
            <a:ext cx="3329280" cy="1989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80800" y="973080"/>
            <a:ext cx="40258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aves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Calibri"/>
              </a:rPr>
              <a:t>’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Dise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immune dis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tibodies bind to TSH recep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erthyroid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temp, sweating, weight loss, high B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8840" y="-360"/>
            <a:ext cx="6413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tress and the Adrenal 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2" descr="45_21_AdrenalGlandStress-L.jpg"/>
          <p:cNvPicPr/>
          <p:nvPr/>
        </p:nvPicPr>
        <p:blipFill>
          <a:blip r:embed="rId1"/>
          <a:stretch/>
        </p:blipFill>
        <p:spPr>
          <a:xfrm>
            <a:off x="669960" y="976320"/>
            <a:ext cx="76341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bolic-Androgenic Steroid (AAS)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26960" y="1352160"/>
            <a:ext cx="84456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ly prescribed to treat hormone deficiency, loss of muscle mass (cancer, AI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enhance performance and improve physical appea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45_14Gynecomastia_UP"/>
          <p:cNvPicPr/>
          <p:nvPr/>
        </p:nvPicPr>
        <p:blipFill>
          <a:blip r:embed="rId1"/>
          <a:stretch/>
        </p:blipFill>
        <p:spPr>
          <a:xfrm>
            <a:off x="3525840" y="3095640"/>
            <a:ext cx="36529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AAS Abuse</a:t>
            </a:r>
            <a:br>
              <a:rPr sz="4400"/>
            </a:b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ource: www.drugabuse.gov/infofacts/steroid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95280" y="1322280"/>
            <a:ext cx="4038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mood sw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uid ret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blood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in LDL 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in HDL (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al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ac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127040" y="1371600"/>
            <a:ext cx="50166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shrinking of the testicles, reduced sperm count, infertility, baldness, development of breasts, increased risk for prostate can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growth of facial hair, male-pattern baldness, changes in or cessation of the menstrual cycle, enlargement of the clitoris, deepened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dolesc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stunted growth due to premature skeletal maturation and accelerated puberty changes; risk of not reaching expected height if AAS is taken before the typical adolescent growth sp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, people who inject AAS run the added risk of contracting or transmitting HIV/AIDS or hepatit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5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peptide hormones to 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insulin and glucagon work to regulate blood suga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glands and hormones respond when your body is under st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5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Hormones and the Endocrin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45_01AniseSwallowtail-L.jpg"/>
          <p:cNvPicPr/>
          <p:nvPr/>
        </p:nvPicPr>
        <p:blipFill>
          <a:blip r:embed="rId1"/>
          <a:stretch/>
        </p:blipFill>
        <p:spPr>
          <a:xfrm>
            <a:off x="1401840" y="1689120"/>
            <a:ext cx="6345000" cy="48276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4"/>
          <p:cNvSpPr/>
          <p:nvPr/>
        </p:nvSpPr>
        <p:spPr>
          <a:xfrm>
            <a:off x="371520" y="6400800"/>
            <a:ext cx="83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hormone called ecdysteroid regulates the timing of metamorphosis in this anise swallowtail butterf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ways hormones affect target org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retion, target, action, and regulation of at least 3 horm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llustration of both positive and negative feedback in the regulation of homeostasis by horm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16120" y="2016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Intercellular Sign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5" descr="45_02_IntercellularCom-L.jpg"/>
          <p:cNvPicPr/>
          <p:nvPr/>
        </p:nvPicPr>
        <p:blipFill>
          <a:blip r:embed="rId1"/>
          <a:stretch/>
        </p:blipFill>
        <p:spPr>
          <a:xfrm>
            <a:off x="4834080" y="0"/>
            <a:ext cx="375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58840" y="457200"/>
            <a:ext cx="86868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ocrine Syste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Hormone-secreting cells +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ocrine g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uctless, secrete hormones directly into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hemical signals that cause a response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arget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ceptor proteins for specific horm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1 tissue, a few, or most tissues in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affect other endocrine gland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opic horm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 b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itive &amp; Negative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434880" y="1004760"/>
          <a:ext cx="8267760" cy="4664160"/>
        </p:xfrm>
        <a:graphic>
          <a:graphicData uri="http://schemas.openxmlformats.org/drawingml/2006/table">
            <a:tbl>
              <a:tblPr/>
              <a:tblGrid>
                <a:gridCol w="2756160"/>
                <a:gridCol w="2755800"/>
                <a:gridCol w="2755800"/>
              </a:tblGrid>
              <a:tr h="106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eromo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mo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l Regulato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1 individual to another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endocrine gland through blood to targe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signal from one cell to an adjacen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ant trail; sex pherm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peptide, steroid horm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 cytokines, growth factors, nitric oxide (N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45_04HumEndocrineGlands-L.jpg"/>
          <p:cNvPicPr/>
          <p:nvPr/>
        </p:nvPicPr>
        <p:blipFill>
          <a:blip r:embed="rId1"/>
          <a:stretch/>
        </p:blipFill>
        <p:spPr>
          <a:xfrm>
            <a:off x="1308240" y="136440"/>
            <a:ext cx="65275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1:42:59Z</dcterms:created>
  <dc:creator>System_70</dc:creator>
  <dc:description/>
  <dc:language>en-US</dc:language>
  <cp:lastModifiedBy>local</cp:lastModifiedBy>
  <cp:lastPrinted>2006-05-03T13:42:43Z</cp:lastPrinted>
  <dcterms:modified xsi:type="dcterms:W3CDTF">2013-02-28T18:00:52Z</dcterms:modified>
  <cp:revision>1493</cp:revision>
  <dc:subject/>
  <dc:title>LE 01-10b</dc:title>
</cp:coreProperties>
</file>